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7C55-7C31-416E-8765-B92988A93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1CBD-4891-48FD-B0A5-1FF080AF8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6906-BFB6-4D8F-8CED-1EEDE49A9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A09D-0264-4BEE-8F3F-0984F8956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E5FC-B042-4322-A2CF-174F4A781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D43A-DB22-446D-9414-5DBB25CBC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68A7-5EF7-45A4-944F-57B01C4D8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529B-7689-4FD1-829F-5D4760958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6167-E159-416D-B512-F75720CB6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9066-0455-4458-85F8-5E87C400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158B-2747-4BBF-A0F9-F363C6C3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1320-4CE3-465E-A241-3D453188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CA1A4-47A0-4F40-8949-8268F36FD3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Word Am I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Inferencing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mbarrass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lighted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student will be chosen as “the guesser.”  They will sit under the projector screen.  The teacher will flash one word on the scree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s in the audience will try to describe a time when they felt this way.  They may NOT use the word on the scree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uesser will try to guess the word on  scre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 more words if desi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ppy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ca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rustrat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2T19:31:44Z</dcterms:created>
  <dc:creator>Clint</dc:creator>
  <dc:description/>
  <dc:language>en-US</dc:language>
  <cp:lastModifiedBy>Shirley Barclay</cp:lastModifiedBy>
  <dcterms:modified xsi:type="dcterms:W3CDTF">2013-03-21T21:33:31Z</dcterms:modified>
  <cp:revision>4</cp:revision>
  <dc:subject/>
  <dc:title>What Word Am I?</dc:title>
</cp:coreProperties>
</file>